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C2F-4ED9-4AD0-82E7-3FDDDCA7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71E-5013-47B9-A47B-ED08F01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ADB-9A17-461C-A0C1-94DCEFC1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169-93A6-4144-B6B3-4F2DBAB3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5399-C8DE-4293-BB2C-A71034AB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5CE55-42D0-45CB-9F70-C7F93A2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B9AD4-FD73-4F52-A23C-D8C3DA5B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DBA29-D9D8-41DB-AD7B-BA503568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2FB3-4BC2-4179-89F1-A170657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8599-80C0-430D-85F2-B58F063A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341E3-9BE1-48B8-ACAF-D060EF8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CAF-BCC8-4D85-B285-25F6728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E471-933B-4718-BFD1-4EE4607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4687-43A8-4EFC-AD1D-09B0B4E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A87C-9C22-450E-8363-ED39BC3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79A1-BA55-4A88-B869-F2F91D5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8DFE9-FDC1-4C04-BE01-A36156B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E4D-1777-4F30-9E4C-F2F29A9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EDC-3CA1-41E7-BD36-29473F35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C18-DE32-4395-93CE-DD897B86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935-843E-46C4-B316-49689AB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D0E-D16D-44C1-96BB-93354E8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40A-EC66-46EE-BCB3-B4E926C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455-7C32-4BC5-9A62-83312CF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DA8D-0454-4723-8BC7-BB7A046E3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C916-046F-4341-A7CD-8DA3742C6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Gregorio Faw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60962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garaj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grande y estupend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693396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sion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grande y magnifico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cocin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mpresionante y bella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9152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omedor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ncredible y grand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11464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sal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magnifico y bell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2184480"/>
            <a:ext cx="708660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ban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lujoso y magnifico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553080" cy="32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38680" y="3733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uart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ncredible y fabulos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538280"/>
            <a:ext cx="716292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jardin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magnifico y incredib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2044800"/>
            <a:ext cx="67053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pati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fabuloso y grande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80010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31Z</dcterms:created>
  <dc:creator>fawkesgre</dc:creator>
  <dc:description/>
  <dc:language>en-US</dc:language>
  <cp:lastModifiedBy>fawkesgre</cp:lastModifiedBy>
  <dcterms:modified xsi:type="dcterms:W3CDTF">2012-03-28T17:39:35Z</dcterms:modified>
  <cp:revision>29</cp:revision>
  <dc:subject/>
  <dc:title>Mi Casa</dc:title>
</cp:coreProperties>
</file>